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9A9-BB94-4AF2-B2AC-0040AB10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184-3411-42AD-BAFF-3417FCD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033-5A98-4810-A2D1-6536D1DD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2EB-8BE1-4C5B-A6D3-90DA7E63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F301-BBF0-44C8-BCDC-68669E6F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9225-6CCE-45D7-9EA2-28172D5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DBA-D083-4F47-BDF1-66D90803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0B00-322E-437C-B94E-7467C36E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C6EB-D574-4ED6-BF42-D302FB6C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4EE0-F9EE-41FD-8901-0149A33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C5FA-1BE3-4146-8855-2AAFBD5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5B2-1B67-4721-A051-1BE40861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36B6-763F-4C7A-B766-9B2C36C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AA3E-1B95-4961-8B61-94688C8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F25-37CC-486B-8B59-1CC8694B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A1C9-F981-4C82-8DDC-192F2233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A4DA-C20D-4833-87D0-6CE0260E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1C8-403D-407A-9FCC-2C4D627E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E93-C9E2-4C59-95CE-1BFFF80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F54-E19E-4778-85CC-760A229F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BDD-2D4C-419E-A4D0-4529249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428-E05D-40AA-ABC6-5A7A42DA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46F-54E8-4F9E-AA12-4BA9BB6C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4F7-C7DE-45F4-AB79-65CB3CD2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516-F576-4D25-B5E2-73D4907909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009-1711-4DA0-BEEE-AC07323CD67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Kinema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ition: where something is with relation to other objects.  Position must be stated in terms of a______________ .We can choose a point on a line as a reference point and indicate position in terms of + and -.  It is a _______ measure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ance: how far something travels.  It is a _________ measur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placement: how far something travels and its direction.  It is a __________ measurement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measurement: a quantity that has a __________(size) and a __________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lar measurement: a quantity that has only a ___________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Interval: The _________ between two clock readings.  The time over which an event occur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ed: how far an object travels per unit _____ that it maintains that speed. (______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locity: tells the speed and __________ of motion.  (_______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_________ Velocity: is how fast an object changed its position in a given time interval.  Found by dividing total displacement by the total tim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__________ Velocity: the velocity at a particular instant in time.  It is found by taking the slope of a tangent to a position-time grap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__________ Velocity: when the velocity of an object is the same for all time intervals, ie. the average and instantaneous velocities are the s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23:28:34Z</dcterms:created>
  <dc:creator>district 17</dc:creator>
  <dc:description/>
  <dc:language>en-US</dc:language>
  <cp:lastModifiedBy>Administrator</cp:lastModifiedBy>
  <dcterms:modified xsi:type="dcterms:W3CDTF">2010-09-04T19:00:38Z</dcterms:modified>
  <cp:revision>8</cp:revision>
  <dc:subject/>
  <dc:title>Unit 1</dc:title>
</cp:coreProperties>
</file>